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0902-5CD9-411B-944E-93302BF6A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E9CC-384B-4074-AD7A-79953E0717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EA8-DC24-4A71-A6FE-39695FDE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567-76E2-49B2-AC17-D529A72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238-5542-4AD0-AE80-8E1E59A8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309-6C52-42F4-BA75-B64275E0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E04F-040D-4E40-874D-3F3B0733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FD1F-E8C9-48B1-93DD-1722FA17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2C54-115D-4286-90C7-3F8714D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4298-B239-4E1D-B226-E3F8A23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4715-5C2A-40BC-8E4C-D27E9177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1E35-D69E-4B4C-8E67-F5BDA6B5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CABE-F7C8-45AA-A422-4ABA5E84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58D-6DDE-409B-BCDA-D6428A3D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C2E0-4237-414C-8F64-5926BDF5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B7B9-E070-417B-8320-7C47CE2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D785-B218-4FA7-AFBA-F6B4BD5C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9EA0-42FF-40E9-B621-1043B67D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1DB6-62FF-4DFA-AC5F-03BFC19B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508-367B-423F-8145-85145122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D0D-FA3E-4F1B-9F8A-86731A50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8C0-43BC-48D2-8196-9185E17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476-093D-4157-8C09-A9A8BE7B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8DA-A0FC-4F69-A7D8-6F4909AE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FDC-8BF8-4609-8AEB-CFA75B68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2097-906C-41DA-AF40-9C481A9C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324F-EFBD-4B2F-8319-9A65188A367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11E5-DEA4-46DE-AB7D-213C8EAD5020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ericancivilwar.com/civilwar/spproduct/c001/1570030375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2.scholastic.com/browse/media.jsp?id=1263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sonofthesouth.net/slavery/photographs/hands-slave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onofthesouth.net/slavery/african-slave-ship.htm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http://americancivilwar.com/amazon/Store/black_slaveown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219320"/>
            <a:ext cx="6019920" cy="4514760"/>
          </a:xfrm>
          <a:prstGeom prst="rect">
            <a:avLst/>
          </a:prstGeom>
          <a:ln w="0">
            <a:noFill/>
          </a:ln>
        </p:spPr>
      </p:pic>
      <p:pic>
        <p:nvPicPr>
          <p:cNvPr id="90" name="Title 1" descr=""/>
          <p:cNvPicPr/>
          <p:nvPr/>
        </p:nvPicPr>
        <p:blipFill>
          <a:blip r:embed="rId3"/>
          <a:stretch/>
        </p:blipFill>
        <p:spPr>
          <a:xfrm>
            <a:off x="450720" y="1365120"/>
            <a:ext cx="7785360" cy="1695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438280" y="35049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y Cameron Hartle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r an example read Henry’s Freedom Box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2" descr="Hnery's Freedom Bo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62320" y="2362320"/>
            <a:ext cx="4343400" cy="41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ok at this pi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Hands of a Slav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362320"/>
            <a:ext cx="5640480" cy="421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lantation Slaves"/>
          <p:cNvPicPr/>
          <p:nvPr/>
        </p:nvPicPr>
        <p:blipFill>
          <a:blip r:embed="rId1"/>
          <a:stretch/>
        </p:blipFill>
        <p:spPr>
          <a:xfrm>
            <a:off x="685800" y="304920"/>
            <a:ext cx="3505320" cy="3465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African Slave Shi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1523880"/>
            <a:ext cx="2825640" cy="403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negroartist.com/Slave%20Sales%20and%20Auctions%20African%20Coast%20and%20the%20Americas/thumbnails/Advertisement%20for%20Slave%20Sale,%20Charleston,%20South%20Carolina,%20late%2018th%20cent_jpg.jpg"/>
          <p:cNvPicPr/>
          <p:nvPr/>
        </p:nvPicPr>
        <p:blipFill>
          <a:blip r:embed="rId4"/>
          <a:stretch/>
        </p:blipFill>
        <p:spPr>
          <a:xfrm>
            <a:off x="1143000" y="4191120"/>
            <a:ext cx="20350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aves suffered and starved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didn’t deserve tha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y didn’t deserve to die and suffer from sickness because they got no food and no water and all they did was WORK,WORK AND WORK!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Santiago"/>
          <p:cNvPicPr/>
          <p:nvPr/>
        </p:nvPicPr>
        <p:blipFill>
          <a:blip r:embed="rId1"/>
          <a:stretch/>
        </p:blipFill>
        <p:spPr>
          <a:xfrm>
            <a:off x="152280" y="380880"/>
            <a:ext cx="3330720" cy="498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 slaves refused to e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ften slave owners would steal from one anoth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3:06:40Z</dcterms:created>
  <dc:creator>BPS</dc:creator>
  <dc:description/>
  <dc:language>en-US</dc:language>
  <cp:lastModifiedBy>BPS</cp:lastModifiedBy>
  <dcterms:modified xsi:type="dcterms:W3CDTF">2010-02-20T00:54:55Z</dcterms:modified>
  <cp:revision>12</cp:revision>
  <dc:subject/>
  <dc:title>Slavery</dc:title>
</cp:coreProperties>
</file>